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9.wmf" ContentType="image/x-wmf"/>
  <Override PartName="/ppt/media/image16.gif" ContentType="image/gif"/>
  <Override PartName="/ppt/media/image17.jpeg" ContentType="image/jpeg"/>
  <Override PartName="/ppt/media/image15.gif" ContentType="image/gif"/>
  <Override PartName="/ppt/media/image3.jpeg" ContentType="image/jpeg"/>
  <Override PartName="/ppt/media/image14.wmf" ContentType="image/x-wmf"/>
  <Override PartName="/ppt/media/image11.gif" ContentType="image/gif"/>
  <Override PartName="/ppt/media/image2.wmf" ContentType="image/x-wmf"/>
  <Override PartName="/ppt/media/image4.jpeg" ContentType="image/jpeg"/>
  <Override PartName="/ppt/media/image13.gif" ContentType="image/gif"/>
  <Override PartName="/ppt/media/image18.wmf" ContentType="image/x-wmf"/>
  <Override PartName="/ppt/media/image5.jpeg" ContentType="image/jpeg"/>
  <Override PartName="/ppt/media/image2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C830-6CEC-4F25-BB9B-CFAD22317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handy assistant…we used the paperclips dipped in the baking soda water to clean off as students feel a shock on their tongue. Have them control the generator themselves as too much hurts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566C-46E2-4E3D-BB3A-D433C0C346F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y remember this re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9BBB-1FA1-4199-8701-67F2F946F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CD60-B90E-47C7-BECC-33DFFAA5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67D0-5289-4F0D-B2EE-BBF0B7DC6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9BA2-DEF0-4EB9-AF8A-AF2D2CA25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6FC9-082D-4EF0-9FD0-4E54D713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6A2C-2AA1-46DF-9F6D-EC7D2D52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8694-C682-4B5A-93FA-2346ADD8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3FBF-325F-463F-AF51-95426DB4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1AE9-15D6-4A4B-8471-3A0DA041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5126-DA46-4C84-AA71-CA83913D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5AE6-2F10-48C1-BBEE-71E1D04C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DE45-E2A1-4CB1-BE1B-497A6E56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E036-C3C6-458C-A5C6-5F13853C8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file:///tmp/home/.config/libreoffice/4/user/gallery/SN00250A.wav" TargetMode="External"/><Relationship Id="rId3" Type="http://schemas.microsoft.com/office/2007/relationships/media" Target="file:///tmp/home/.config/libreoffice/4/user/gallery/SN00250A.wav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228600"/>
            <a:ext cx="8686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on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51958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4/19/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hat would happe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3208320"/>
            <a:ext cx="3886200" cy="2917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48120" y="3124080"/>
            <a:ext cx="1218960" cy="3048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03680" y="4437000"/>
            <a:ext cx="2509560" cy="1293840"/>
          </a:xfrm>
          <a:custGeom>
            <a:avLst/>
            <a:gdLst/>
            <a:ahLst/>
            <a:rect l="l" t="t" r="r" b="b"/>
            <a:pathLst>
              <a:path w="1581" h="815">
                <a:moveTo>
                  <a:pt x="0" y="72"/>
                </a:moveTo>
                <a:cubicBezTo>
                  <a:pt x="162" y="52"/>
                  <a:pt x="324" y="35"/>
                  <a:pt x="487" y="21"/>
                </a:cubicBezTo>
                <a:cubicBezTo>
                  <a:pt x="628" y="26"/>
                  <a:pt x="776" y="0"/>
                  <a:pt x="909" y="47"/>
                </a:cubicBezTo>
                <a:cubicBezTo>
                  <a:pt x="982" y="73"/>
                  <a:pt x="1028" y="117"/>
                  <a:pt x="1101" y="136"/>
                </a:cubicBezTo>
                <a:cubicBezTo>
                  <a:pt x="1162" y="176"/>
                  <a:pt x="1228" y="206"/>
                  <a:pt x="1293" y="239"/>
                </a:cubicBezTo>
                <a:cubicBezTo>
                  <a:pt x="1373" y="280"/>
                  <a:pt x="1342" y="299"/>
                  <a:pt x="1383" y="354"/>
                </a:cubicBezTo>
                <a:cubicBezTo>
                  <a:pt x="1413" y="394"/>
                  <a:pt x="1457" y="441"/>
                  <a:pt x="1498" y="469"/>
                </a:cubicBezTo>
                <a:cubicBezTo>
                  <a:pt x="1502" y="482"/>
                  <a:pt x="1504" y="495"/>
                  <a:pt x="1511" y="507"/>
                </a:cubicBezTo>
                <a:cubicBezTo>
                  <a:pt x="1526" y="534"/>
                  <a:pt x="1562" y="584"/>
                  <a:pt x="1562" y="584"/>
                </a:cubicBezTo>
                <a:cubicBezTo>
                  <a:pt x="1581" y="659"/>
                  <a:pt x="1562" y="815"/>
                  <a:pt x="1562" y="815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21360" y="5121360"/>
            <a:ext cx="677880" cy="609480"/>
          </a:xfrm>
          <a:custGeom>
            <a:avLst/>
            <a:gdLst/>
            <a:ahLst/>
            <a:rect l="l" t="t" r="r" b="b"/>
            <a:pathLst>
              <a:path w="427" h="384">
                <a:moveTo>
                  <a:pt x="0" y="0"/>
                </a:moveTo>
                <a:cubicBezTo>
                  <a:pt x="51" y="34"/>
                  <a:pt x="107" y="44"/>
                  <a:pt x="166" y="64"/>
                </a:cubicBezTo>
                <a:cubicBezTo>
                  <a:pt x="180" y="69"/>
                  <a:pt x="190" y="84"/>
                  <a:pt x="204" y="89"/>
                </a:cubicBezTo>
                <a:cubicBezTo>
                  <a:pt x="224" y="97"/>
                  <a:pt x="247" y="98"/>
                  <a:pt x="268" y="102"/>
                </a:cubicBezTo>
                <a:cubicBezTo>
                  <a:pt x="332" y="145"/>
                  <a:pt x="299" y="115"/>
                  <a:pt x="358" y="204"/>
                </a:cubicBezTo>
                <a:cubicBezTo>
                  <a:pt x="367" y="217"/>
                  <a:pt x="384" y="243"/>
                  <a:pt x="384" y="243"/>
                </a:cubicBezTo>
                <a:cubicBezTo>
                  <a:pt x="388" y="256"/>
                  <a:pt x="390" y="269"/>
                  <a:pt x="396" y="281"/>
                </a:cubicBezTo>
                <a:cubicBezTo>
                  <a:pt x="403" y="295"/>
                  <a:pt x="418" y="305"/>
                  <a:pt x="422" y="320"/>
                </a:cubicBezTo>
                <a:cubicBezTo>
                  <a:pt x="427" y="341"/>
                  <a:pt x="422" y="363"/>
                  <a:pt x="422" y="384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8320" y="5486400"/>
            <a:ext cx="16002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5562720"/>
            <a:ext cx="5331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866920" y="5562720"/>
            <a:ext cx="38124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05520" y="6705720"/>
            <a:ext cx="8380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624852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60199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Water &amp; Baking s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34120" y="510516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867280" y="4648320"/>
            <a:ext cx="83844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91320" y="403848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per C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5562720"/>
            <a:ext cx="3049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5562720"/>
            <a:ext cx="3045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7524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ctrolysis – splitting water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5638680"/>
            <a:ext cx="15264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15000" y="5638680"/>
            <a:ext cx="15228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96252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86400" y="0"/>
            <a:ext cx="2895480" cy="1219320"/>
          </a:xfrm>
          <a:prstGeom prst="cloudCallout">
            <a:avLst>
              <a:gd name="adj1" fmla="val -43916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ikes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3049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y th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59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9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0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14400" y="1600200"/>
            <a:ext cx="7448400" cy="4952880"/>
            <a:chOff x="914400" y="1600200"/>
            <a:chExt cx="7448400" cy="495288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rcRect l="30001" t="0" r="0" b="0"/>
            <a:stretch/>
          </p:blipFill>
          <p:spPr>
            <a:xfrm>
              <a:off x="5091120" y="3048120"/>
              <a:ext cx="3271680" cy="350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2"/>
            <a:srcRect l="0" t="0" r="30001" b="0"/>
            <a:stretch/>
          </p:blipFill>
          <p:spPr>
            <a:xfrm>
              <a:off x="914400" y="1600200"/>
              <a:ext cx="3502080" cy="37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3948120" y="3276720"/>
              <a:ext cx="1523880" cy="1218960"/>
            </a:xfrm>
            <a:custGeom>
              <a:avLst/>
              <a:gdLst/>
              <a:ahLst/>
              <a:rect l="l" t="t" r="r" b="b"/>
              <a:pathLst>
                <a:path w="891" h="1125">
                  <a:moveTo>
                    <a:pt x="0" y="0"/>
                  </a:moveTo>
                  <a:cubicBezTo>
                    <a:pt x="85" y="28"/>
                    <a:pt x="151" y="76"/>
                    <a:pt x="236" y="104"/>
                  </a:cubicBezTo>
                  <a:cubicBezTo>
                    <a:pt x="330" y="200"/>
                    <a:pt x="351" y="345"/>
                    <a:pt x="393" y="471"/>
                  </a:cubicBezTo>
                  <a:cubicBezTo>
                    <a:pt x="429" y="582"/>
                    <a:pt x="416" y="709"/>
                    <a:pt x="472" y="811"/>
                  </a:cubicBezTo>
                  <a:cubicBezTo>
                    <a:pt x="536" y="926"/>
                    <a:pt x="599" y="1028"/>
                    <a:pt x="734" y="1073"/>
                  </a:cubicBezTo>
                  <a:cubicBezTo>
                    <a:pt x="786" y="1090"/>
                    <a:pt x="891" y="1125"/>
                    <a:pt x="891" y="1125"/>
                  </a:cubicBezTo>
                </a:path>
              </a:pathLst>
            </a:custGeom>
            <a:noFill/>
            <a:ln w="73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48120" y="3505320"/>
              <a:ext cx="1523880" cy="1295280"/>
            </a:xfrm>
            <a:custGeom>
              <a:avLst/>
              <a:gdLst/>
              <a:ahLst/>
              <a:rect l="l" t="t" r="r" b="b"/>
              <a:pathLst>
                <a:path w="891" h="1125">
                  <a:moveTo>
                    <a:pt x="0" y="0"/>
                  </a:moveTo>
                  <a:cubicBezTo>
                    <a:pt x="85" y="28"/>
                    <a:pt x="151" y="76"/>
                    <a:pt x="236" y="104"/>
                  </a:cubicBezTo>
                  <a:cubicBezTo>
                    <a:pt x="330" y="200"/>
                    <a:pt x="351" y="345"/>
                    <a:pt x="393" y="471"/>
                  </a:cubicBezTo>
                  <a:cubicBezTo>
                    <a:pt x="429" y="582"/>
                    <a:pt x="416" y="709"/>
                    <a:pt x="472" y="811"/>
                  </a:cubicBezTo>
                  <a:cubicBezTo>
                    <a:pt x="536" y="926"/>
                    <a:pt x="599" y="1028"/>
                    <a:pt x="734" y="1073"/>
                  </a:cubicBezTo>
                  <a:cubicBezTo>
                    <a:pt x="786" y="1090"/>
                    <a:pt x="891" y="1125"/>
                    <a:pt x="891" y="1125"/>
                  </a:cubicBezTo>
                </a:path>
              </a:pathLst>
            </a:custGeom>
            <a:noFill/>
            <a:ln w="73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371600" y="20574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2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05520" y="35053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3505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60199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38880" y="4799160"/>
            <a:ext cx="1555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3886200"/>
            <a:ext cx="1526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48769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29718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 will happen 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62120" y="2514600"/>
            <a:ext cx="7140600" cy="3989520"/>
            <a:chOff x="762120" y="2514600"/>
            <a:chExt cx="7140600" cy="398952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762120" y="3962520"/>
              <a:ext cx="2419200" cy="23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5562720" y="2514600"/>
              <a:ext cx="234000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3171960" y="3956040"/>
              <a:ext cx="2800080" cy="1433520"/>
            </a:xfrm>
            <a:custGeom>
              <a:avLst/>
              <a:gdLst/>
              <a:ahLst/>
              <a:rect l="l" t="t" r="r" b="b"/>
              <a:pathLst>
                <a:path w="1764" h="903">
                  <a:moveTo>
                    <a:pt x="0" y="903"/>
                  </a:moveTo>
                  <a:cubicBezTo>
                    <a:pt x="49" y="899"/>
                    <a:pt x="98" y="897"/>
                    <a:pt x="147" y="890"/>
                  </a:cubicBezTo>
                  <a:cubicBezTo>
                    <a:pt x="180" y="885"/>
                    <a:pt x="245" y="866"/>
                    <a:pt x="245" y="866"/>
                  </a:cubicBezTo>
                  <a:cubicBezTo>
                    <a:pt x="261" y="858"/>
                    <a:pt x="281" y="854"/>
                    <a:pt x="294" y="841"/>
                  </a:cubicBezTo>
                  <a:cubicBezTo>
                    <a:pt x="303" y="832"/>
                    <a:pt x="296" y="813"/>
                    <a:pt x="306" y="805"/>
                  </a:cubicBezTo>
                  <a:cubicBezTo>
                    <a:pt x="333" y="784"/>
                    <a:pt x="436" y="733"/>
                    <a:pt x="478" y="719"/>
                  </a:cubicBezTo>
                  <a:cubicBezTo>
                    <a:pt x="520" y="690"/>
                    <a:pt x="576" y="681"/>
                    <a:pt x="612" y="645"/>
                  </a:cubicBezTo>
                  <a:cubicBezTo>
                    <a:pt x="666" y="592"/>
                    <a:pt x="719" y="539"/>
                    <a:pt x="772" y="486"/>
                  </a:cubicBezTo>
                  <a:cubicBezTo>
                    <a:pt x="788" y="470"/>
                    <a:pt x="799" y="444"/>
                    <a:pt x="821" y="437"/>
                  </a:cubicBezTo>
                  <a:cubicBezTo>
                    <a:pt x="880" y="417"/>
                    <a:pt x="846" y="431"/>
                    <a:pt x="919" y="388"/>
                  </a:cubicBezTo>
                  <a:cubicBezTo>
                    <a:pt x="962" y="330"/>
                    <a:pt x="1010" y="289"/>
                    <a:pt x="1078" y="265"/>
                  </a:cubicBezTo>
                  <a:cubicBezTo>
                    <a:pt x="1137" y="206"/>
                    <a:pt x="1163" y="168"/>
                    <a:pt x="1237" y="143"/>
                  </a:cubicBezTo>
                  <a:cubicBezTo>
                    <a:pt x="1313" y="92"/>
                    <a:pt x="1229" y="141"/>
                    <a:pt x="1348" y="106"/>
                  </a:cubicBezTo>
                  <a:cubicBezTo>
                    <a:pt x="1365" y="101"/>
                    <a:pt x="1380" y="89"/>
                    <a:pt x="1397" y="82"/>
                  </a:cubicBezTo>
                  <a:cubicBezTo>
                    <a:pt x="1456" y="56"/>
                    <a:pt x="1520" y="41"/>
                    <a:pt x="1581" y="20"/>
                  </a:cubicBezTo>
                  <a:cubicBezTo>
                    <a:pt x="1639" y="0"/>
                    <a:pt x="1703" y="20"/>
                    <a:pt x="1764" y="2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20760" y="4086360"/>
              <a:ext cx="4708800" cy="2417760"/>
            </a:xfrm>
            <a:custGeom>
              <a:avLst/>
              <a:gdLst/>
              <a:ahLst/>
              <a:rect l="l" t="t" r="r" b="b"/>
              <a:pathLst>
                <a:path w="2966" h="1523">
                  <a:moveTo>
                    <a:pt x="0" y="1066"/>
                  </a:moveTo>
                  <a:cubicBezTo>
                    <a:pt x="16" y="1099"/>
                    <a:pt x="38" y="1129"/>
                    <a:pt x="49" y="1164"/>
                  </a:cubicBezTo>
                  <a:cubicBezTo>
                    <a:pt x="57" y="1188"/>
                    <a:pt x="58" y="1216"/>
                    <a:pt x="73" y="1237"/>
                  </a:cubicBezTo>
                  <a:cubicBezTo>
                    <a:pt x="121" y="1307"/>
                    <a:pt x="203" y="1358"/>
                    <a:pt x="282" y="1384"/>
                  </a:cubicBezTo>
                  <a:cubicBezTo>
                    <a:pt x="348" y="1430"/>
                    <a:pt x="415" y="1446"/>
                    <a:pt x="490" y="1470"/>
                  </a:cubicBezTo>
                  <a:cubicBezTo>
                    <a:pt x="568" y="1523"/>
                    <a:pt x="644" y="1504"/>
                    <a:pt x="735" y="1495"/>
                  </a:cubicBezTo>
                  <a:cubicBezTo>
                    <a:pt x="832" y="1464"/>
                    <a:pt x="920" y="1410"/>
                    <a:pt x="1017" y="1384"/>
                  </a:cubicBezTo>
                  <a:cubicBezTo>
                    <a:pt x="1029" y="1376"/>
                    <a:pt x="1043" y="1370"/>
                    <a:pt x="1054" y="1360"/>
                  </a:cubicBezTo>
                  <a:cubicBezTo>
                    <a:pt x="1072" y="1345"/>
                    <a:pt x="1084" y="1324"/>
                    <a:pt x="1103" y="1311"/>
                  </a:cubicBezTo>
                  <a:cubicBezTo>
                    <a:pt x="1185" y="1256"/>
                    <a:pt x="1140" y="1315"/>
                    <a:pt x="1201" y="1262"/>
                  </a:cubicBezTo>
                  <a:cubicBezTo>
                    <a:pt x="1322" y="1157"/>
                    <a:pt x="1213" y="1234"/>
                    <a:pt x="1299" y="1176"/>
                  </a:cubicBezTo>
                  <a:cubicBezTo>
                    <a:pt x="1354" y="1091"/>
                    <a:pt x="1446" y="1029"/>
                    <a:pt x="1544" y="1005"/>
                  </a:cubicBezTo>
                  <a:cubicBezTo>
                    <a:pt x="1603" y="966"/>
                    <a:pt x="1641" y="949"/>
                    <a:pt x="1703" y="919"/>
                  </a:cubicBezTo>
                  <a:cubicBezTo>
                    <a:pt x="1756" y="866"/>
                    <a:pt x="1750" y="840"/>
                    <a:pt x="1826" y="821"/>
                  </a:cubicBezTo>
                  <a:cubicBezTo>
                    <a:pt x="1851" y="743"/>
                    <a:pt x="1964" y="720"/>
                    <a:pt x="2022" y="674"/>
                  </a:cubicBezTo>
                  <a:cubicBezTo>
                    <a:pt x="2077" y="630"/>
                    <a:pt x="2125" y="561"/>
                    <a:pt x="2194" y="539"/>
                  </a:cubicBezTo>
                  <a:cubicBezTo>
                    <a:pt x="2260" y="517"/>
                    <a:pt x="2335" y="520"/>
                    <a:pt x="2390" y="465"/>
                  </a:cubicBezTo>
                  <a:cubicBezTo>
                    <a:pt x="2442" y="413"/>
                    <a:pt x="2469" y="364"/>
                    <a:pt x="2537" y="331"/>
                  </a:cubicBezTo>
                  <a:cubicBezTo>
                    <a:pt x="2611" y="228"/>
                    <a:pt x="2650" y="208"/>
                    <a:pt x="2745" y="147"/>
                  </a:cubicBezTo>
                  <a:cubicBezTo>
                    <a:pt x="2774" y="104"/>
                    <a:pt x="2793" y="77"/>
                    <a:pt x="2843" y="61"/>
                  </a:cubicBezTo>
                  <a:cubicBezTo>
                    <a:pt x="2881" y="36"/>
                    <a:pt x="2917" y="0"/>
                    <a:pt x="296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762120" y="2514600"/>
            <a:ext cx="7140600" cy="3989520"/>
            <a:chOff x="762120" y="2514600"/>
            <a:chExt cx="7140600" cy="398952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762120" y="3962520"/>
              <a:ext cx="2419200" cy="23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5562720" y="2514600"/>
              <a:ext cx="234000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171960" y="3956040"/>
              <a:ext cx="2800080" cy="1433520"/>
            </a:xfrm>
            <a:custGeom>
              <a:avLst/>
              <a:gdLst/>
              <a:ahLst/>
              <a:rect l="l" t="t" r="r" b="b"/>
              <a:pathLst>
                <a:path w="1764" h="903">
                  <a:moveTo>
                    <a:pt x="0" y="903"/>
                  </a:moveTo>
                  <a:cubicBezTo>
                    <a:pt x="49" y="899"/>
                    <a:pt x="98" y="897"/>
                    <a:pt x="147" y="890"/>
                  </a:cubicBezTo>
                  <a:cubicBezTo>
                    <a:pt x="180" y="885"/>
                    <a:pt x="245" y="866"/>
                    <a:pt x="245" y="866"/>
                  </a:cubicBezTo>
                  <a:cubicBezTo>
                    <a:pt x="261" y="858"/>
                    <a:pt x="281" y="854"/>
                    <a:pt x="294" y="841"/>
                  </a:cubicBezTo>
                  <a:cubicBezTo>
                    <a:pt x="303" y="832"/>
                    <a:pt x="296" y="813"/>
                    <a:pt x="306" y="805"/>
                  </a:cubicBezTo>
                  <a:cubicBezTo>
                    <a:pt x="333" y="784"/>
                    <a:pt x="436" y="733"/>
                    <a:pt x="478" y="719"/>
                  </a:cubicBezTo>
                  <a:cubicBezTo>
                    <a:pt x="520" y="690"/>
                    <a:pt x="576" y="681"/>
                    <a:pt x="612" y="645"/>
                  </a:cubicBezTo>
                  <a:cubicBezTo>
                    <a:pt x="666" y="592"/>
                    <a:pt x="719" y="539"/>
                    <a:pt x="772" y="486"/>
                  </a:cubicBezTo>
                  <a:cubicBezTo>
                    <a:pt x="788" y="470"/>
                    <a:pt x="799" y="444"/>
                    <a:pt x="821" y="437"/>
                  </a:cubicBezTo>
                  <a:cubicBezTo>
                    <a:pt x="880" y="417"/>
                    <a:pt x="846" y="431"/>
                    <a:pt x="919" y="388"/>
                  </a:cubicBezTo>
                  <a:cubicBezTo>
                    <a:pt x="962" y="330"/>
                    <a:pt x="1010" y="289"/>
                    <a:pt x="1078" y="265"/>
                  </a:cubicBezTo>
                  <a:cubicBezTo>
                    <a:pt x="1137" y="206"/>
                    <a:pt x="1163" y="168"/>
                    <a:pt x="1237" y="143"/>
                  </a:cubicBezTo>
                  <a:cubicBezTo>
                    <a:pt x="1313" y="92"/>
                    <a:pt x="1229" y="141"/>
                    <a:pt x="1348" y="106"/>
                  </a:cubicBezTo>
                  <a:cubicBezTo>
                    <a:pt x="1365" y="101"/>
                    <a:pt x="1380" y="89"/>
                    <a:pt x="1397" y="82"/>
                  </a:cubicBezTo>
                  <a:cubicBezTo>
                    <a:pt x="1456" y="56"/>
                    <a:pt x="1520" y="41"/>
                    <a:pt x="1581" y="20"/>
                  </a:cubicBezTo>
                  <a:cubicBezTo>
                    <a:pt x="1639" y="0"/>
                    <a:pt x="1703" y="20"/>
                    <a:pt x="1764" y="2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20760" y="4086360"/>
              <a:ext cx="4708800" cy="2417760"/>
            </a:xfrm>
            <a:custGeom>
              <a:avLst/>
              <a:gdLst/>
              <a:ahLst/>
              <a:rect l="l" t="t" r="r" b="b"/>
              <a:pathLst>
                <a:path w="2966" h="1523">
                  <a:moveTo>
                    <a:pt x="0" y="1066"/>
                  </a:moveTo>
                  <a:cubicBezTo>
                    <a:pt x="16" y="1099"/>
                    <a:pt x="38" y="1129"/>
                    <a:pt x="49" y="1164"/>
                  </a:cubicBezTo>
                  <a:cubicBezTo>
                    <a:pt x="57" y="1188"/>
                    <a:pt x="58" y="1216"/>
                    <a:pt x="73" y="1237"/>
                  </a:cubicBezTo>
                  <a:cubicBezTo>
                    <a:pt x="121" y="1307"/>
                    <a:pt x="203" y="1358"/>
                    <a:pt x="282" y="1384"/>
                  </a:cubicBezTo>
                  <a:cubicBezTo>
                    <a:pt x="348" y="1430"/>
                    <a:pt x="415" y="1446"/>
                    <a:pt x="490" y="1470"/>
                  </a:cubicBezTo>
                  <a:cubicBezTo>
                    <a:pt x="568" y="1523"/>
                    <a:pt x="644" y="1504"/>
                    <a:pt x="735" y="1495"/>
                  </a:cubicBezTo>
                  <a:cubicBezTo>
                    <a:pt x="832" y="1464"/>
                    <a:pt x="920" y="1410"/>
                    <a:pt x="1017" y="1384"/>
                  </a:cubicBezTo>
                  <a:cubicBezTo>
                    <a:pt x="1029" y="1376"/>
                    <a:pt x="1043" y="1370"/>
                    <a:pt x="1054" y="1360"/>
                  </a:cubicBezTo>
                  <a:cubicBezTo>
                    <a:pt x="1072" y="1345"/>
                    <a:pt x="1084" y="1324"/>
                    <a:pt x="1103" y="1311"/>
                  </a:cubicBezTo>
                  <a:cubicBezTo>
                    <a:pt x="1185" y="1256"/>
                    <a:pt x="1140" y="1315"/>
                    <a:pt x="1201" y="1262"/>
                  </a:cubicBezTo>
                  <a:cubicBezTo>
                    <a:pt x="1322" y="1157"/>
                    <a:pt x="1213" y="1234"/>
                    <a:pt x="1299" y="1176"/>
                  </a:cubicBezTo>
                  <a:cubicBezTo>
                    <a:pt x="1354" y="1091"/>
                    <a:pt x="1446" y="1029"/>
                    <a:pt x="1544" y="1005"/>
                  </a:cubicBezTo>
                  <a:cubicBezTo>
                    <a:pt x="1603" y="966"/>
                    <a:pt x="1641" y="949"/>
                    <a:pt x="1703" y="919"/>
                  </a:cubicBezTo>
                  <a:cubicBezTo>
                    <a:pt x="1756" y="866"/>
                    <a:pt x="1750" y="840"/>
                    <a:pt x="1826" y="821"/>
                  </a:cubicBezTo>
                  <a:cubicBezTo>
                    <a:pt x="1851" y="743"/>
                    <a:pt x="1964" y="720"/>
                    <a:pt x="2022" y="674"/>
                  </a:cubicBezTo>
                  <a:cubicBezTo>
                    <a:pt x="2077" y="630"/>
                    <a:pt x="2125" y="561"/>
                    <a:pt x="2194" y="539"/>
                  </a:cubicBezTo>
                  <a:cubicBezTo>
                    <a:pt x="2260" y="517"/>
                    <a:pt x="2335" y="520"/>
                    <a:pt x="2390" y="465"/>
                  </a:cubicBezTo>
                  <a:cubicBezTo>
                    <a:pt x="2442" y="413"/>
                    <a:pt x="2469" y="364"/>
                    <a:pt x="2537" y="331"/>
                  </a:cubicBezTo>
                  <a:cubicBezTo>
                    <a:pt x="2611" y="228"/>
                    <a:pt x="2650" y="208"/>
                    <a:pt x="2745" y="147"/>
                  </a:cubicBezTo>
                  <a:cubicBezTo>
                    <a:pt x="2774" y="104"/>
                    <a:pt x="2793" y="77"/>
                    <a:pt x="2843" y="61"/>
                  </a:cubicBezTo>
                  <a:cubicBezTo>
                    <a:pt x="2881" y="36"/>
                    <a:pt x="2917" y="0"/>
                    <a:pt x="296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0" y="990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you explain why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t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ll move the needle of a galvanome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905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otor contains magnets and coils and can act like a generator if given mechanical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629040" y="3048120"/>
            <a:ext cx="2286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624720" y="3290760"/>
            <a:ext cx="637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5943600" cy="4457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0"/>
            <a:ext cx="97534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o, the generator chan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_____energy into_____ energ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9954200">
            <a:off x="5258160" y="837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electr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20173200">
            <a:off x="360" y="837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mechan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77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0" dur="77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2" dur="77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4" dur="77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7534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o, the electric motor chan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_____energy into_____ energ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981080" y="2225520"/>
            <a:ext cx="4800600" cy="4632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 rot="19954200">
            <a:off x="305280" y="837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electr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20173200">
            <a:off x="5105880" y="837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mechan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7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70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ow are motors and generators related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ors and motors produce mechanical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ors and motors are oppos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s make electricity to run genera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ResponseCounter"/>
          <p:cNvGrpSpPr/>
          <p:nvPr/>
        </p:nvGrpSpPr>
        <p:grpSpPr>
          <a:xfrm>
            <a:off x="127080" y="1308240"/>
            <a:ext cx="1511280" cy="5422320"/>
            <a:chOff x="127080" y="1308240"/>
            <a:chExt cx="1511280" cy="5422320"/>
          </a:xfrm>
        </p:grpSpPr>
        <p:sp>
          <p:nvSpPr>
            <p:cNvPr id="157" name="RCPole"/>
            <p:cNvSpPr/>
            <p:nvPr/>
          </p:nvSpPr>
          <p:spPr>
            <a:xfrm>
              <a:off x="317520" y="1523880"/>
              <a:ext cx="0" cy="50796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CFlag"/>
            <p:cNvSpPr/>
            <p:nvPr/>
          </p:nvSpPr>
          <p:spPr>
            <a:xfrm>
              <a:off x="368280" y="5841720"/>
              <a:ext cx="1270080" cy="76176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98640 h 761760"/>
                <a:gd name="textAreaBottom" fmla="*/ 663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CTop"/>
            <p:cNvSpPr/>
            <p:nvPr/>
          </p:nvSpPr>
          <p:spPr>
            <a:xfrm>
              <a:off x="127080" y="1308240"/>
              <a:ext cx="381240" cy="2538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2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CBottom"/>
            <p:cNvSpPr/>
            <p:nvPr/>
          </p:nvSpPr>
          <p:spPr>
            <a:xfrm>
              <a:off x="127080" y="6603840"/>
              <a:ext cx="406440" cy="1267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AnswerNow"/>
          <p:cNvGrpSpPr/>
          <p:nvPr/>
        </p:nvGrpSpPr>
        <p:grpSpPr>
          <a:xfrm>
            <a:off x="3778200" y="5524560"/>
            <a:ext cx="1587600" cy="952560"/>
            <a:chOff x="3778200" y="5524560"/>
            <a:chExt cx="1587600" cy="952560"/>
          </a:xfrm>
        </p:grpSpPr>
        <p:sp>
          <p:nvSpPr>
            <p:cNvPr id="162" name="ANShape"/>
            <p:cNvSpPr/>
            <p:nvPr/>
          </p:nvSpPr>
          <p:spPr>
            <a:xfrm>
              <a:off x="3778200" y="5524560"/>
              <a:ext cx="1587600" cy="95256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NText"/>
            <p:cNvSpPr/>
            <p:nvPr/>
          </p:nvSpPr>
          <p:spPr>
            <a:xfrm>
              <a:off x="3809880" y="5524560"/>
              <a:ext cx="15242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Impact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8000" spc="-1" strike="noStrike">
                <a:solidFill>
                  <a:srgbClr val="ff0066"/>
                </a:solidFill>
                <a:latin typeface="Arial"/>
              </a:rPr>
              <a:t>generator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is opposite of the </a:t>
            </a:r>
            <a:r>
              <a:rPr b="1" lang="en-US" sz="8000" spc="-1" strike="noStrike">
                <a:solidFill>
                  <a:srgbClr val="ff0066"/>
                </a:solidFill>
                <a:latin typeface="Arial"/>
              </a:rPr>
              <a:t>motor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to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enerato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2514600"/>
            <a:ext cx="3733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ECHANIC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590920"/>
            <a:ext cx="3733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ECTRIC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 flipH="1">
            <a:off x="3733560" y="1676520"/>
            <a:ext cx="1523880" cy="1593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733920" y="3581280"/>
            <a:ext cx="1584360" cy="1613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3733920" y="1676520"/>
            <a:ext cx="1623960" cy="14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27432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il of w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1143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g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3520" y="609480"/>
            <a:ext cx="8153280" cy="1600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021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y can make electricity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y are these so important to u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105520" y="4419720"/>
            <a:ext cx="3733200" cy="1142640"/>
            <a:chOff x="5105520" y="4419720"/>
            <a:chExt cx="3733200" cy="114264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5105520" y="4419720"/>
              <a:ext cx="861480" cy="11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 txBox="1"/>
            <p:nvPr/>
          </p:nvSpPr>
          <p:spPr>
            <a:xfrm>
              <a:off x="5988600" y="4558320"/>
              <a:ext cx="2850120" cy="91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100000">
                        <a:srgbClr val="4d0808"/>
                      </a:gs>
                    </a:gsLst>
                    <a:lin ang="5400000"/>
                  </a:gradFill>
                  <a:latin typeface="Broadway"/>
                </a:rPr>
                <a:t>Warm-U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Broadway"/>
                <a:ea typeface="Broadway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55260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al Energy - </a:t>
            </a: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Uniqu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800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al energy is </a:t>
            </a: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uniqu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from the other energy sources because it is a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econda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ource of energy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at means it must be produced or generated by another energy sour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secondary energy for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form of energy is considered to be a secondary form because other forms are required to produce it…Which form of energy cannot be created without another form transforming into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80880" y="5486400"/>
            <a:ext cx="8458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Electrical Energy</a:t>
            </a:r>
            <a:endParaRPr b="0" lang="en-US" sz="1800" spc="1" strike="noStrike">
              <a:ln w="19080">
                <a:solidFill>
                  <a:srgbClr val="80008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5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380880" y="5486400"/>
            <a:ext cx="8458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Electrical Energy</a:t>
            </a:r>
            <a:endParaRPr b="0" lang="en-US" sz="1800" spc="1" strike="noStrike">
              <a:ln w="19080">
                <a:solidFill>
                  <a:srgbClr val="80008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95640"/>
          </a:xfrm>
          <a:prstGeom prst="rect">
            <a:avLst/>
          </a:prstGeom>
          <a:solidFill>
            <a:srgbClr val="80008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kes electrical energy a secondary form of ener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solidFill>
            <a:srgbClr val="80008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cal transforms into electr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 and water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ant transforms into electr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ar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 transforms into electr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ssil Fuels and bat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clear transforms into electr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ssion in nuclear power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43000" y="76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0440" y="1645560"/>
            <a:ext cx="8686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Energy Conversion Flowchar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2712960" cy="14475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1295280"/>
            <a:ext cx="8763120" cy="327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311040"/>
            <a:ext cx="91440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Energy cannot be created or destroyed, only change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1219320"/>
            <a:ext cx="84582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vantGarde Bk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__________ energy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2. __________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6. __________ energy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3. __________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4. __________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5. __________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95480" y="63244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Conversion Flow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3505320"/>
            <a:ext cx="167616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Century Gothic"/>
              </a:rPr>
              <a:t>Wor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entury Gothic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entury Gothic"/>
              </a:rPr>
              <a:t>Chem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entury Gothic"/>
              </a:rPr>
              <a:t>Nucl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entury Gothic"/>
              </a:rPr>
              <a:t>Radi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entury Gothic"/>
              </a:rPr>
              <a:t>The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entury Gothic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676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 Bk BT"/>
              </a:rPr>
              <a:t>(Sun, Sol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05520" y="1676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 Bk BT"/>
              </a:rPr>
              <a:t>(Fossil fuels, Bioma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819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 Bk BT"/>
              </a:rPr>
              <a:t>(Urani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8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vantGarde Bk BT"/>
              </a:rPr>
              <a:t>moves</a:t>
            </a:r>
            <a:r>
              <a:rPr b="0" lang="en-US" sz="1800" spc="-1" strike="noStrike">
                <a:solidFill>
                  <a:srgbClr val="000000"/>
                </a:solidFill>
                <a:latin typeface="AvantGarde Bk BT"/>
              </a:rPr>
              <a:t> turb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81480" y="41911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 Bk BT"/>
              </a:rPr>
              <a:t>(wind, water, Tid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586728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Heat   Light   Sound   Mo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19920" y="2057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05520" y="27432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vantGarde Bk BT"/>
              </a:rPr>
              <a:t>heat</a:t>
            </a:r>
            <a:r>
              <a:rPr b="0" lang="en-US" sz="1800" spc="-1" strike="noStrike">
                <a:solidFill>
                  <a:srgbClr val="000000"/>
                </a:solidFill>
                <a:latin typeface="AvantGarde Bk BT"/>
              </a:rPr>
              <a:t> to make ste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1992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19920" y="4572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876920" y="55627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6272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34320" y="55627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81280" y="1523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05320" y="160020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52680" y="2590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505320" y="1066320"/>
            <a:ext cx="1447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952880" y="990360"/>
            <a:ext cx="20574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10280" y="99072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229600" y="1219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381880" y="1523880"/>
            <a:ext cx="38124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7086600" y="464832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3120" y="31240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7924320" y="396252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438280" y="2895480"/>
            <a:ext cx="1935360" cy="28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sources can be used to generate electri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ssil Fu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ResponseCounter"/>
          <p:cNvGrpSpPr/>
          <p:nvPr/>
        </p:nvGrpSpPr>
        <p:grpSpPr>
          <a:xfrm>
            <a:off x="127080" y="1308240"/>
            <a:ext cx="1511280" cy="5422320"/>
            <a:chOff x="127080" y="1308240"/>
            <a:chExt cx="1511280" cy="5422320"/>
          </a:xfrm>
        </p:grpSpPr>
        <p:sp>
          <p:nvSpPr>
            <p:cNvPr id="221" name="RCPole"/>
            <p:cNvSpPr/>
            <p:nvPr/>
          </p:nvSpPr>
          <p:spPr>
            <a:xfrm>
              <a:off x="317520" y="1523880"/>
              <a:ext cx="0" cy="50796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CFlag"/>
            <p:cNvSpPr/>
            <p:nvPr/>
          </p:nvSpPr>
          <p:spPr>
            <a:xfrm>
              <a:off x="368280" y="5841720"/>
              <a:ext cx="1270080" cy="76176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98640 h 761760"/>
                <a:gd name="textAreaBottom" fmla="*/ 663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CTop"/>
            <p:cNvSpPr/>
            <p:nvPr/>
          </p:nvSpPr>
          <p:spPr>
            <a:xfrm>
              <a:off x="127080" y="1308240"/>
              <a:ext cx="381240" cy="2538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2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CBottom"/>
            <p:cNvSpPr/>
            <p:nvPr/>
          </p:nvSpPr>
          <p:spPr>
            <a:xfrm>
              <a:off x="127080" y="6603840"/>
              <a:ext cx="406440" cy="1267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AnswerNow"/>
          <p:cNvGrpSpPr/>
          <p:nvPr/>
        </p:nvGrpSpPr>
        <p:grpSpPr>
          <a:xfrm>
            <a:off x="3778200" y="5524560"/>
            <a:ext cx="1587600" cy="952560"/>
            <a:chOff x="3778200" y="5524560"/>
            <a:chExt cx="1587600" cy="952560"/>
          </a:xfrm>
        </p:grpSpPr>
        <p:sp>
          <p:nvSpPr>
            <p:cNvPr id="226" name="ANShape"/>
            <p:cNvSpPr/>
            <p:nvPr/>
          </p:nvSpPr>
          <p:spPr>
            <a:xfrm>
              <a:off x="3778200" y="5524560"/>
              <a:ext cx="1587600" cy="95256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NText"/>
            <p:cNvSpPr/>
            <p:nvPr/>
          </p:nvSpPr>
          <p:spPr>
            <a:xfrm>
              <a:off x="3809880" y="5524560"/>
              <a:ext cx="15242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Impact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600200"/>
            <a:ext cx="7545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-Up: Electric 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or Lab and D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ary Energy Source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Conversion Flow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ources can be used to generate electrical ener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 Objective</a:t>
            </a:r>
            <a:br>
              <a:rPr sz="4400"/>
            </a:br>
            <a:fld id="{4EC0E4C8-F9D3-4A3C-99DA-063B853073AE}" type="datetime2">
              <a:rPr b="1" lang="en-US" sz="2400" spc="-1" strike="noStrike">
                <a:solidFill>
                  <a:srgbClr val="000000"/>
                </a:solidFill>
                <a:latin typeface="Arial"/>
              </a:rPr>
              <a:t>Thursday, July 30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31664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cribe the relationship between motors and generato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ain what is special about electrical energy as a sour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y Question 18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energy and how is it passed from one thing to anoth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28800" y="4419720"/>
            <a:ext cx="335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pinningMagn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91440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Coi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495680" y="3580920"/>
            <a:ext cx="685800" cy="1295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324480" y="1752480"/>
            <a:ext cx="91440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620120" cy="5716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RY TH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hat would happe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3208320"/>
            <a:ext cx="3886200" cy="2917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8120" y="3124080"/>
            <a:ext cx="1218960" cy="3048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03680" y="4437000"/>
            <a:ext cx="2509560" cy="1293840"/>
          </a:xfrm>
          <a:custGeom>
            <a:avLst/>
            <a:gdLst/>
            <a:ahLst/>
            <a:rect l="l" t="t" r="r" b="b"/>
            <a:pathLst>
              <a:path w="1581" h="815">
                <a:moveTo>
                  <a:pt x="0" y="72"/>
                </a:moveTo>
                <a:cubicBezTo>
                  <a:pt x="162" y="52"/>
                  <a:pt x="324" y="35"/>
                  <a:pt x="487" y="21"/>
                </a:cubicBezTo>
                <a:cubicBezTo>
                  <a:pt x="628" y="26"/>
                  <a:pt x="776" y="0"/>
                  <a:pt x="909" y="47"/>
                </a:cubicBezTo>
                <a:cubicBezTo>
                  <a:pt x="982" y="73"/>
                  <a:pt x="1028" y="117"/>
                  <a:pt x="1101" y="136"/>
                </a:cubicBezTo>
                <a:cubicBezTo>
                  <a:pt x="1162" y="176"/>
                  <a:pt x="1228" y="206"/>
                  <a:pt x="1293" y="239"/>
                </a:cubicBezTo>
                <a:cubicBezTo>
                  <a:pt x="1373" y="280"/>
                  <a:pt x="1342" y="299"/>
                  <a:pt x="1383" y="354"/>
                </a:cubicBezTo>
                <a:cubicBezTo>
                  <a:pt x="1413" y="394"/>
                  <a:pt x="1457" y="441"/>
                  <a:pt x="1498" y="469"/>
                </a:cubicBezTo>
                <a:cubicBezTo>
                  <a:pt x="1502" y="482"/>
                  <a:pt x="1504" y="495"/>
                  <a:pt x="1511" y="507"/>
                </a:cubicBezTo>
                <a:cubicBezTo>
                  <a:pt x="1526" y="534"/>
                  <a:pt x="1562" y="584"/>
                  <a:pt x="1562" y="584"/>
                </a:cubicBezTo>
                <a:cubicBezTo>
                  <a:pt x="1581" y="659"/>
                  <a:pt x="1562" y="815"/>
                  <a:pt x="1562" y="815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21360" y="5121360"/>
            <a:ext cx="677880" cy="609480"/>
          </a:xfrm>
          <a:custGeom>
            <a:avLst/>
            <a:gdLst/>
            <a:ahLst/>
            <a:rect l="l" t="t" r="r" b="b"/>
            <a:pathLst>
              <a:path w="427" h="384">
                <a:moveTo>
                  <a:pt x="0" y="0"/>
                </a:moveTo>
                <a:cubicBezTo>
                  <a:pt x="51" y="34"/>
                  <a:pt x="107" y="44"/>
                  <a:pt x="166" y="64"/>
                </a:cubicBezTo>
                <a:cubicBezTo>
                  <a:pt x="180" y="69"/>
                  <a:pt x="190" y="84"/>
                  <a:pt x="204" y="89"/>
                </a:cubicBezTo>
                <a:cubicBezTo>
                  <a:pt x="224" y="97"/>
                  <a:pt x="247" y="98"/>
                  <a:pt x="268" y="102"/>
                </a:cubicBezTo>
                <a:cubicBezTo>
                  <a:pt x="332" y="145"/>
                  <a:pt x="299" y="115"/>
                  <a:pt x="358" y="204"/>
                </a:cubicBezTo>
                <a:cubicBezTo>
                  <a:pt x="367" y="217"/>
                  <a:pt x="384" y="243"/>
                  <a:pt x="384" y="243"/>
                </a:cubicBezTo>
                <a:cubicBezTo>
                  <a:pt x="388" y="256"/>
                  <a:pt x="390" y="269"/>
                  <a:pt x="396" y="281"/>
                </a:cubicBezTo>
                <a:cubicBezTo>
                  <a:pt x="403" y="295"/>
                  <a:pt x="418" y="305"/>
                  <a:pt x="422" y="320"/>
                </a:cubicBezTo>
                <a:cubicBezTo>
                  <a:pt x="427" y="341"/>
                  <a:pt x="422" y="363"/>
                  <a:pt x="422" y="384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48320" y="5486400"/>
            <a:ext cx="16002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5562720"/>
            <a:ext cx="5331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866920" y="5562720"/>
            <a:ext cx="38124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6705720"/>
            <a:ext cx="8380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91320" y="624852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60199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Water &amp; Baking s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34120" y="510516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867280" y="4648320"/>
            <a:ext cx="83844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403848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per C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5562720"/>
            <a:ext cx="3049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562720"/>
            <a:ext cx="3045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81480" y="5638680"/>
            <a:ext cx="15264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15000" y="5638680"/>
            <a:ext cx="15228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1828800"/>
            <a:ext cx="739116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happene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y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514512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2209680" y="0"/>
            <a:ext cx="5181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lectrolysi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8:18:27Z</dcterms:created>
  <dc:creator>CCPS</dc:creator>
  <dc:description/>
  <dc:language>en-US</dc:language>
  <cp:lastModifiedBy>CCPS</cp:lastModifiedBy>
  <dcterms:modified xsi:type="dcterms:W3CDTF">2010-04-19T18:18:46Z</dcterms:modified>
  <cp:revision>1</cp:revision>
  <dc:subject/>
  <dc:title>Slide 1</dc:title>
</cp:coreProperties>
</file>